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27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26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556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9988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7160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3556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99880" y="4392360"/>
            <a:ext cx="206064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65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439236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392360"/>
            <a:ext cx="64008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731880" cy="3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5bb29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0240" y="1275840"/>
            <a:ext cx="7772400" cy="13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5bb29"/>
                </a:solidFill>
                <a:latin typeface="Arial"/>
              </a:rPr>
              <a:t>SharePoint PREP</a:t>
            </a:r>
            <a:br>
              <a:rPr sz="5400"/>
            </a:br>
            <a:r>
              <a:rPr b="1" lang="en-US" sz="3600" spc="-1" strike="noStrike">
                <a:solidFill>
                  <a:srgbClr val="f5bb29"/>
                </a:solidFill>
                <a:latin typeface="Arial"/>
              </a:rPr>
              <a:t>Version 2.0</a:t>
            </a:r>
            <a:endParaRPr b="1" lang="en-US" sz="36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7086600" cy="15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 Felkn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 iCamp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knor@mit.ed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ocument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2680" y="1214280"/>
            <a:ext cx="8491320" cy="503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ocument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601992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895480" y="4038480"/>
            <a:ext cx="606744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ocument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86200" cy="28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5943600" cy="2469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ocument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142040" cy="293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ocument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4419360" cy="24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4419720" cy="3122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vent Lists (Calendar)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800600" cy="2108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525780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vents (Calendar)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733560" cy="3029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66880" y="2743200"/>
            <a:ext cx="6172200" cy="374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Task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181480" cy="2397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352680" y="3852720"/>
            <a:ext cx="5334120" cy="259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5332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Task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Task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00100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Meeting Workspac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315200" cy="565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Meeting Workspac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icture Librarie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05560" cy="51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iscussion Board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6640" y="1415880"/>
            <a:ext cx="5834160" cy="3759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449604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5512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SharePoi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Point Feature De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 on Share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Discussion Board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454280" cy="3016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4724280" cy="249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mail Aler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70520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743200" y="3352680"/>
            <a:ext cx="6248520" cy="32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Email Alert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41656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2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Why SharePoi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SharePoint Feature De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 on Share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on SharePoi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5512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REP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SharePoint PREP Workfl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Overvie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37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r </a:t>
            </a: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iew </a:t>
            </a: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uation </a:t>
            </a: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ms of 4-6 design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member creates a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docu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member reviews other members desig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-1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on SharePoi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5512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REP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SharePoint PREP Workfl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SharePoint site per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Matrix per assig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row per Team Memb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column per Team Memb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696080" cy="21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ection of Member’s row &amp; column contains an Idea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076960" cy="337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Why SharePoint?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Infra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Access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mbers On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mited Sub-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076960" cy="3372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section of Member’s row &amp; column contains an Idea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076960" cy="3372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0010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squares contain Review 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ns pertain to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162560" cy="299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162560" cy="3002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ns pertain to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ws pertain to 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467480" cy="3117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8076960" cy="3102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ws pertain to 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ons show stat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3522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3522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Matrix</a:t>
            </a: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ons show stat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on SharePoint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5512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REP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REP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Point PREP Workfl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PREP Workflo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36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Upload an Idea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Review other team members id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Ideas Docu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load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Why SharePoint?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2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in/ Check o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e loc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ver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s L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l into Outlook 200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PREP Workflo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15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one starts with an Ideas ta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your obligation to create and upload an idea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8229600" cy="2151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8153280" cy="2105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PREP Workflo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15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one starts with an Ideas ta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your obligation to create and upload an idea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task is gre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task is click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s are read-on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7924680" cy="221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s have hov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7924680" cy="203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5981760" cy="2571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5029200" cy="310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581880" cy="275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uploa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appears on th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Tasks are created for other team member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7696440" cy="242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7696440" cy="2427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uploa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appears on the Matr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Tasks are created for other team member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Up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ew of PREP Matrix after all Team Members have uploaded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7924680" cy="330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1: Down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 Task icons are click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 to Ideas Document Downl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479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Why SharePoint?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3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29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 site just for one me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own document library, task list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1: Down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Green Icon to Download Ide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5760" y="2585880"/>
            <a:ext cx="8272440" cy="34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334120" cy="3859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1: Download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2: Review Idea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ce Ideas document is viewed/download, status changes to “In Progress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on changes to yell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467480" cy="310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3: Upload Revie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5972040" cy="2705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781440" y="3552840"/>
            <a:ext cx="5362560" cy="3305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3: Upload Review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6172200" cy="2735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90920" y="3757680"/>
            <a:ext cx="6324480" cy="283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Review 4: Finished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ed icon = review 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on is clickable by a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s to the review docu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7924680" cy="3289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Folder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381024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 Documents Document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-level by U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495680" cy="2063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971800" y="3886200"/>
            <a:ext cx="5945040" cy="2595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Folders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38102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folders by PREP Assig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as Documents and Reviews in User’s Assignment Fol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505040" cy="23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563868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Task Library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 Review Tasks: Dedicated Task Library for PR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7772400" cy="3628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 Task Library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86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 Matrix is controlled by Tasks on this l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619760" cy="4480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55120" cy="32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Why SharePoi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Point Feature De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71d3"/>
                </a:solidFill>
                <a:latin typeface="Arial"/>
              </a:rPr>
              <a:t>PREP on Share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3520" y="1143000"/>
            <a:ext cx="8305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PREP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905120"/>
            <a:ext cx="6400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icampus.mit.edu/P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76720"/>
            <a:ext cx="7772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MIT iCamp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5680" y="4419720"/>
            <a:ext cx="6400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icampus.mit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Screen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501040" cy="5045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bb29"/>
                </a:solidFill>
                <a:latin typeface="Arial"/>
              </a:rPr>
              <a:t>SharePoint Feature Demo</a:t>
            </a:r>
            <a:endParaRPr b="1" lang="en-US" sz="4800" spc="-1" strike="noStrike">
              <a:solidFill>
                <a:srgbClr val="f5bb2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nt Lis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eting Work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cture Libra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Bo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5bb2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ail Ale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20:34:31Z</dcterms:created>
  <dc:creator>Chris Felknor</dc:creator>
  <dc:description>Template Author: Chris Felknor</dc:description>
  <dc:language>en-US</dc:language>
  <cp:lastModifiedBy>Chris Felknor</cp:lastModifiedBy>
  <dcterms:modified xsi:type="dcterms:W3CDTF">2006-11-06T21:05:39Z</dcterms:modified>
  <cp:revision>41</cp:revision>
  <dc:subject/>
  <dc:title>SharePoint PREP Version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.0</vt:lpwstr>
  </property>
</Properties>
</file>